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9D2-C638-44BC-AFEE-327DF834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A1C-735A-43A1-863A-BE54EF7C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E31-193B-4275-BF3A-8B708D8B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D1B-A860-4BEE-9E7E-760FE4BD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833A-C88A-41B2-8F91-5EEE48C0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A675-4258-4DDD-BFD0-8A839C55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9EA0-9E89-4455-807A-BC7F437B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B39B-509F-461E-8CF7-2BD81E7C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EC39-5C31-4C5B-8E3B-EA5BDA18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688D-E4E0-4228-AF5B-BD9222B5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9386-E9EB-4135-A5DB-E4E5690B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2D6-6618-4A8E-A5ED-1AE91B11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AA98-B34E-43F3-BE55-8C99E678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67D5-54B6-4ADE-9EB2-F496B5F1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F98A-B3DC-473B-B4AE-6353A4B4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3900-C860-4DC0-BF5F-C87FB488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988C-9BF1-4DDF-ABCE-D96C2CE4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559-7C7B-43F5-82BF-36EF5455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D5F-D710-4B2A-835D-EEA5A14D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4A4-360E-41C8-A1CB-8EACA6D6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C76-7769-42EE-8C8E-D51C2BA1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DD5-1B02-4170-A0B2-D0151E89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B60-CF6E-4F02-96CF-1D0AEEE9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E73-A804-47BC-8DF2-20CCE291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0281-04E5-403F-96DC-3D12C4B9A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4F19-33A5-459B-BEB7-8B8FAB423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afety Practices in Healthcar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Ergonomic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efined: applied science used to promote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fety and well-being of a person by adap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nvironment and using techniques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even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ju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Techniques may inclu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correct furniture/ equipment plac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appropriate body mechanics t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efforts to avoid repetitive mov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environmental awar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257800" y="3193920"/>
            <a:ext cx="363852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Fire Safety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Fires need three things to star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oxygen/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fuel (anything that will bur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heat (sparks, matches, fl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5638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Fire Safety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47920" y="1142640"/>
            <a:ext cx="5790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Causes of fi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Carelessness with smoking/mat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Misuse of electri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defects in heat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improper garbage dispo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a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4307040"/>
            <a:ext cx="2819520" cy="2073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10080" y="3738600"/>
            <a:ext cx="3124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Fire Safety</a:t>
            </a: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C. Fire Extinguishers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ice used to put out a f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aution: residues produced m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harmful if inhaled or irritating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in skin and eye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. Class 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water – for pap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th, wo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. Class 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CO2 – for gas, oi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int, liquid, and cooking f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3. Class 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otassium dry chemical-for electr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4. Class ABC/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graphite-type chem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ll fire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1724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D. Fire Prevention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84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Obey “NO SMOKING” signs, especially a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and flammable liquids (gas, alcohol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Extinguish flammable items completely and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priate contain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Check for damaged electrical cords and do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load electrical outl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Store flammable materials in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iners in a safe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Declut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553080" y="4449600"/>
            <a:ext cx="2152800" cy="20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Fire Safety</a:t>
            </a: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E. Procedures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Stay calm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Evacuate using the facility’s emergency pl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R – A – C – 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 = Rescue…anyone in immediate da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Remove…patients to a safe pl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Activate…the fire ala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= Confine…the fire and 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/doors to prevent drafts. Turn 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2 and electrical equipment if your safety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endange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Extinguish…the fire using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priate fire extinguish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Safety Standards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Defined: set of rules designed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 both the patient and the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 wor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Established and enforced by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upational Safety and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on (OS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81680" y="4191120"/>
            <a:ext cx="1954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Safety Standards - OSHA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Occupational Exposure to Hazard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cals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Blood Borne Pathogen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dates to protect health care work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diseases caused by exposure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 fluids (more to com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Use of Appropriat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ody Mechan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d: the way in which the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s and maintains balance w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ing the most efficient use of all 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delines prevent strain and hel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tain muscle strength (more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e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5000" y="2057040"/>
            <a:ext cx="3124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pa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sure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zard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Requi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ufacturers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ty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ets (MS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zard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s they s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Occupational Exposure to</a:t>
            </a:r>
            <a:br>
              <a:rPr sz="3200"/>
            </a:b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Hazardous Chemicals Standards</a:t>
            </a:r>
            <a:br>
              <a:rPr sz="40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Requires that employ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inform employees of all chemicals and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workpl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train employees on the proper procedures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icies to fol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identify type/location of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locate/use MSDS man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read/interpret labels/sig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 use personal protective equipment (PP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 spill management and chemical dispo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 incident exposure documentation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Safety Guidelines</a:t>
            </a: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A. Equipment and Solutions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Do not operate equipment until you are instru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use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Read all operating instructions and follow all saf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a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Report damaged/malfunctioning equi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mediately, including frayed electrical 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Read all MSDS sheets and do not use unlabe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 Read labels thoroughly to ensu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ion and u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. Use solutions only as indicated and do not m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tions unless instructed to do so by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vis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. Report and document incident exposure immediate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Safety Guidelines</a:t>
            </a: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B. Patient Safety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Do not perform procedures on a patient unl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are instructed to do so, have appropri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uthorization, and follow approved techniqu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Provide privacy for all patients and ensure yo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 working with the correct patie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Communicate with your patient and ens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se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Observe t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tient f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s 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 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at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rea f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zard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54864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Safety Guidelines</a:t>
            </a: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C. Personal Safety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84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It is your responsibility to protect yourself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others from inju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Use correct body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Wear appropriate attire/unif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Walk – never run – in healthcare sett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Report, document, and manage any inci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sures or safety viol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 Maintain neat and clean work are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. Wash hands frequentl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27760" y="3581280"/>
            <a:ext cx="3216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19:32:28Z</dcterms:created>
  <dc:creator>LW</dc:creator>
  <dc:description/>
  <dc:language>en-US</dc:language>
  <cp:lastModifiedBy>LW</cp:lastModifiedBy>
  <dcterms:modified xsi:type="dcterms:W3CDTF">2012-08-24T20:08:27Z</dcterms:modified>
  <cp:revision>2</cp:revision>
  <dc:subject/>
  <dc:title>Safety Practices in Healthcare</dc:title>
</cp:coreProperties>
</file>